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1F6-082C-4B19-805F-B8B8821A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289-F796-483C-B808-12FBA52C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0F4-5E35-40C7-B47D-8909BB62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3D2-CD64-424F-B94E-F2863EBE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59C-0393-471B-A232-02CDAFC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B3E-C21A-4270-A095-8A9E1141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10D-7E01-4469-99F0-1D24B7B5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8C3-675A-42D8-8F3E-C616B85C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EF9-D7A9-497B-8779-D326851D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7F6-4C36-463C-A885-ADF21FC5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FAE-5122-45A1-9191-3A66907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F9E-E3C5-45DB-B68A-8156583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1F7F-9EBF-4F2B-AA77-62ADEC9E69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B6C941F3-2151-4F25-BF56-E9391A2D5C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8.9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are not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t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t. 16.1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loo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th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s 2.1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al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ns and you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ugh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A309D050-40BB-4195-A382-BB0EFDB4C2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0BE9A613-E92C-41CC-A607-75FA3854B5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e as Pronou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m do you see?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coming?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se as Ad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Arial"/>
              </a:rPr>
              <a:t>Ι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an also mean 'why?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are you speaking ?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what are you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ying?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B3892522-E7F5-446D-85F5-F4A1F821FC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Distinguishing between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(someone) and </a:t>
            </a:r>
            <a:r>
              <a:rPr b="1" lang="el-GR" sz="27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nt on the first syllabl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E8A699A0-9015-40C7-AF2F-03A0C826E0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for a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ave always declined like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88D15C7D-F5EE-41BA-870A-1498E7E1AD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itive pl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nding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ω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2560"/>
                <a:gridCol w="36054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CE91306C-67D8-4905-BFFD-A8F06EB747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78A1C829-2AC7-4363-B06A-D6AD1AD6F9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'star'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and therefore its stem i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ε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C0D45662-3A3E-46FB-BF5A-D5F8752A57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flesh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ξ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κ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σαρξ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child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δ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παι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ruler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ω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οντος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o the dative plural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</a:rPr>
              <a:t>ἀρχουσιν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844598ED-FC68-4020-8D96-CC57E83365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000000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</a:rPr>
              <a:t>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sometimes part of the stem, and sometimes not. Also the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the dative plural.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τη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πατ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Gentium"/>
              </a:rPr>
              <a:t>ε</a:t>
            </a:r>
            <a:r>
              <a:rPr b="0" lang="el-GR" sz="2200" spc="-1" strike="noStrike">
                <a:solidFill>
                  <a:srgbClr val="000000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2C9B5516-3036-4C38-B21E-FC53F7DD96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'body' is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624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11280"/>
                <a:gridCol w="141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:Grammar </a:t>
            </a:r>
            <a:fld id="{23064394-64C8-4F41-8037-06D74A38D0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9-07-11T00:07:56Z</dcterms:modified>
  <cp:revision>38</cp:revision>
  <dc:subject/>
  <dc:title>Slide 1</dc:title>
</cp:coreProperties>
</file>